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DB2217-5B14-4DF6-B638-43AA0AE79F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E86CA-7EB7-4E0A-B393-A1B9DB952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712C33-D19F-4ECA-8FA0-2C4082AD77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92E20C-1747-47F1-B847-E57AE9F900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79037-D71D-46AD-844D-81C0DDF53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FF061-72BD-4E67-B34D-9F23FCF36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B21D5-C7B4-4D56-BAD1-96FE74AED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8BF6B-3BC5-447F-885B-0AF330D3B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216C5-75E1-4369-B232-C512FF54D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506D4-FCBB-447C-B64A-27C466790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3ED52-937D-4A7F-B8E6-805573EFA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FF023-2C72-4652-B6D1-9DE1273858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37DA5-A750-4AEC-940B-0FC427A862A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mailto:Contact4ha@Gmail.Com"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4652640"/>
            <a:ext cx="410508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gorithm homework help</a:t>
            </a:r>
            <a:endParaRPr b="0" lang="en-US" sz="2400" spc="-1" strike="noStrike">
              <a:solidFill>
                <a:srgbClr val="000000"/>
              </a:solidFill>
              <a:latin typeface="Arial"/>
            </a:endParaRPr>
          </a:p>
        </p:txBody>
      </p:sp>
      <p:sp>
        <p:nvSpPr>
          <p:cNvPr id="42" name="Rectangle 169"/>
          <p:cNvSpPr/>
          <p:nvPr/>
        </p:nvSpPr>
        <p:spPr>
          <a:xfrm>
            <a:off x="357120" y="5214960"/>
            <a:ext cx="5033880" cy="1166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or More Detail </a:t>
            </a:r>
            <a:r>
              <a:rPr b="1" lang="en-US" sz="1000" spc="-1" strike="noStrike">
                <a:solidFill>
                  <a:srgbClr val="ffff00"/>
                </a:solidFill>
                <a:latin typeface="Arial"/>
              </a:rPr>
              <a:t>http://www.myhelpassignment.com/datastructuresalgorithms-assignment-help.aspx</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mail:- Contact4ha@Gmail.Co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hone:- +1 (631) 973-965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b:- </a:t>
            </a:r>
            <a:r>
              <a:rPr b="1" lang="en-US" sz="1000" spc="-1" strike="noStrike">
                <a:solidFill>
                  <a:srgbClr val="ffff00"/>
                </a:solidFill>
                <a:latin typeface="Arial"/>
              </a:rPr>
              <a:t>Myhelpassignment.Com</a:t>
            </a:r>
            <a:endParaRPr b="0" lang="en-US" sz="1000" spc="-1" strike="noStrike">
              <a:solidFill>
                <a:srgbClr val="000000"/>
              </a:solidFill>
              <a:latin typeface="Arial"/>
            </a:endParaRPr>
          </a:p>
        </p:txBody>
      </p:sp>
      <p:sp>
        <p:nvSpPr>
          <p:cNvPr id="43" name="Rectangle 5"/>
          <p:cNvSpPr/>
          <p:nvPr/>
        </p:nvSpPr>
        <p:spPr>
          <a:xfrm>
            <a:off x="71280" y="6643800"/>
            <a:ext cx="785880" cy="14292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7" descr="logo.png"/>
          <p:cNvPicPr/>
          <p:nvPr/>
        </p:nvPicPr>
        <p:blipFill>
          <a:blip r:embed="rId2"/>
          <a:stretch/>
        </p:blipFill>
        <p:spPr>
          <a:xfrm>
            <a:off x="5500800" y="214200"/>
            <a:ext cx="3076560" cy="1071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ndalus"/>
                <a:ea typeface="Andalus"/>
              </a:rPr>
              <a:t>Introduction</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parajita"/>
                <a:ea typeface="Aparajita"/>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parajita"/>
              </a:rPr>
              <a:t>The algorithm is a set of directions designed to perform a particular task. Specifically, in a Programming language, there are various ways to complete any task. Therefore Programmers design the most efficient algorithm that boosts the speed for running a program.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Rectangle 5"/>
          <p:cNvSpPr/>
          <p:nvPr/>
        </p:nvSpPr>
        <p:spPr>
          <a:xfrm>
            <a:off x="71280" y="6643800"/>
            <a:ext cx="785880" cy="2142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Box 6"/>
          <p:cNvSpPr/>
          <p:nvPr/>
        </p:nvSpPr>
        <p:spPr>
          <a:xfrm>
            <a:off x="1331640" y="6548400"/>
            <a:ext cx="7299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http://www.myhelpassignment.com/datastructuresalgorithms-assignment-help.asp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ndalus"/>
                <a:ea typeface="Andalus"/>
              </a:rPr>
              <a:t>Points that must be noticed while designing a good Algorithm</a:t>
            </a:r>
            <a:endParaRPr b="0" lang="en-US" sz="28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parajita"/>
              </a:rPr>
              <a:t>Every step in the algorithm is important. So, each step must be clear and accurat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parajita"/>
              </a:rPr>
              <a:t>Among different ways of giving an instruction, the algorithm used must be effectiv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parajita"/>
              </a:rPr>
              <a:t>Inputs and outputs should be accurately defined.</a:t>
            </a:r>
            <a:endParaRPr b="0" lang="en-US" sz="2000" spc="-1" strike="noStrike">
              <a:solidFill>
                <a:srgbClr val="000000"/>
              </a:solidFill>
              <a:latin typeface="Arial"/>
            </a:endParaRPr>
          </a:p>
        </p:txBody>
      </p:sp>
      <p:sp>
        <p:nvSpPr>
          <p:cNvPr id="51" name="Rectangle 5"/>
          <p:cNvSpPr/>
          <p:nvPr/>
        </p:nvSpPr>
        <p:spPr>
          <a:xfrm>
            <a:off x="71280" y="6643800"/>
            <a:ext cx="785880" cy="2142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Box 6"/>
          <p:cNvSpPr/>
          <p:nvPr/>
        </p:nvSpPr>
        <p:spPr>
          <a:xfrm>
            <a:off x="1331640" y="6548400"/>
            <a:ext cx="7299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http://www.myhelpassignment.com/datastructuresalgorithms-assignment-help.asp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ndalus"/>
                <a:ea typeface="Andalus"/>
              </a:rPr>
              <a:t>Some of the homework help topics include:</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parajita"/>
                <a:ea typeface="Aparajita"/>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parajita"/>
              </a:rPr>
              <a:t>Basic graph algorithms. Minimum Spanning Trees. Shortest path, advanced graph algorithm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parajita"/>
              </a:rPr>
              <a:t>Advanced geometric algorithms, Linked Lists, and Trees, Analysis of Algorithms, Computational Complexity</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parajita"/>
              </a:rPr>
              <a:t>Elementary graph algorithms, algorithms, fundamental algorithms and advanced methods of algorithmic desig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Rectangle 5"/>
          <p:cNvSpPr/>
          <p:nvPr/>
        </p:nvSpPr>
        <p:spPr>
          <a:xfrm>
            <a:off x="71280" y="6643800"/>
            <a:ext cx="785880" cy="2142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Box 6"/>
          <p:cNvSpPr/>
          <p:nvPr/>
        </p:nvSpPr>
        <p:spPr>
          <a:xfrm>
            <a:off x="1331640" y="6548400"/>
            <a:ext cx="7299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http://www.myhelpassignment.com/datastructuresalgorithms-assignment-help.asp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ndalus"/>
                <a:ea typeface="Andalus"/>
              </a:rPr>
              <a:t>Our team of Data Structures Algorithms experts </a:t>
            </a:r>
            <a:endParaRPr b="0" lang="en-US" sz="28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parajita"/>
                <a:ea typeface="Aparajita"/>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Narrow"/>
                <a:ea typeface="Aparajita"/>
              </a:rPr>
              <a:t>Our team of Data Structures Algorithms experts is widely acknowledged for their in-depth knowledge of the subject. Our team provides Homework help on Data Structures Algorithms notes, Data Structures Algorithms articles and Data Structures Algorithms study materials, which are extremely helpful for students to excel in Data Structures Algorithm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Rectangle 5"/>
          <p:cNvSpPr/>
          <p:nvPr/>
        </p:nvSpPr>
        <p:spPr>
          <a:xfrm>
            <a:off x="71280" y="6643800"/>
            <a:ext cx="785880" cy="2142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6"/>
          <p:cNvSpPr/>
          <p:nvPr/>
        </p:nvSpPr>
        <p:spPr>
          <a:xfrm>
            <a:off x="1331640" y="6548400"/>
            <a:ext cx="7299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http://www.myhelpassignment.com/datastructuresalgorithms-assignment-help.asp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ndalus"/>
                <a:ea typeface="Andalus"/>
              </a:rPr>
              <a:t>covering a large number of topics</a:t>
            </a:r>
            <a:endParaRPr b="0" lang="en-US" sz="2800" spc="-1" strike="noStrike">
              <a:solidFill>
                <a:srgbClr val="000000"/>
              </a:solidFill>
              <a:latin typeface="Arial"/>
            </a:endParaRPr>
          </a:p>
        </p:txBody>
      </p:sp>
      <p:sp>
        <p:nvSpPr>
          <p:cNvPr id="62" name="Rectangle 5"/>
          <p:cNvSpPr/>
          <p:nvPr/>
        </p:nvSpPr>
        <p:spPr>
          <a:xfrm>
            <a:off x="71280" y="6643800"/>
            <a:ext cx="785880" cy="2142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Box 6"/>
          <p:cNvSpPr/>
          <p:nvPr/>
        </p:nvSpPr>
        <p:spPr>
          <a:xfrm>
            <a:off x="1331640" y="6548400"/>
            <a:ext cx="7299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http://www.myhelpassignment.com/datastructuresalgorithms-assignment-help.asp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Rectangle 7"/>
          <p:cNvSpPr/>
          <p:nvPr/>
        </p:nvSpPr>
        <p:spPr>
          <a:xfrm>
            <a:off x="714240" y="2000160"/>
            <a:ext cx="3000600" cy="4357800"/>
          </a:xfrm>
          <a:prstGeom prst="rect">
            <a:avLst/>
          </a:prstGeom>
          <a:solidFill>
            <a:srgbClr val="ffffff"/>
          </a:solidFill>
          <a:ln w="25560">
            <a:solidFill>
              <a:srgbClr val="2d2d8a"/>
            </a:solidFill>
            <a:miter/>
          </a:ln>
        </p:spPr>
        <p:style>
          <a:lnRef idx="0"/>
          <a:fillRef idx="0"/>
          <a:effectRef idx="0"/>
          <a:fontRef idx="minor"/>
        </p:style>
        <p:txBody>
          <a:bodyPr lIns="90000" rIns="90000" tIns="46800" bIns="46800" anchor="ctr">
            <a:no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nary tre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nary Search Tre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Black tre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L tre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bble Sor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ertion Sor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ay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ck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u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nked List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p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e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al n-airy tre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sh Tables</a:t>
            </a:r>
            <a:endParaRPr b="0" lang="en-US" sz="1600" spc="-1" strike="noStrike">
              <a:solidFill>
                <a:srgbClr val="000000"/>
              </a:solidFill>
              <a:latin typeface="Arial"/>
            </a:endParaRPr>
          </a:p>
        </p:txBody>
      </p:sp>
      <p:sp>
        <p:nvSpPr>
          <p:cNvPr id="65" name="Rectangle 9"/>
          <p:cNvSpPr/>
          <p:nvPr/>
        </p:nvSpPr>
        <p:spPr>
          <a:xfrm>
            <a:off x="4286160" y="2000160"/>
            <a:ext cx="3000600" cy="4357800"/>
          </a:xfrm>
          <a:prstGeom prst="rect">
            <a:avLst/>
          </a:prstGeom>
          <a:solidFill>
            <a:srgbClr val="ffffff"/>
          </a:solidFill>
          <a:ln w="25560">
            <a:solidFill>
              <a:srgbClr val="2d2d8a"/>
            </a:solidFill>
            <a:miter/>
          </a:ln>
        </p:spPr>
        <p:style>
          <a:lnRef idx="0"/>
          <a:fillRef idx="0"/>
          <a:effectRef idx="0"/>
          <a:fontRef idx="minor"/>
        </p:style>
        <p:txBody>
          <a:bodyPr lIns="90000" rIns="90000" tIns="46800" bIns="46800" anchor="ctr">
            <a:no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nimum Spanning Tree (MS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ick Sor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rge Sor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ell Sor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p Sor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cket Sor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dix Sor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uffle Sor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tribution Sor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ndalus"/>
                <a:ea typeface="Andalus"/>
              </a:rPr>
              <a:t>My Help Assignment provides online tutoring</a:t>
            </a:r>
            <a:endParaRPr b="0" lang="en-US" sz="28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parajita"/>
              </a:rPr>
              <a:t>Now free your mind from worries about your homework because we are here to help you throughout a day experts. Our team at My Help Assignment provides online tutoring, project help, homework and assignment help in Data Structures and Algorithm to every standard of students of every corner of the globe. Our team of experts provides help and guidance in Data Structures and Algorithms. You will get prompt assistance with the sufficient explanation from our online mentors. </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Rectangle 5"/>
          <p:cNvSpPr/>
          <p:nvPr/>
        </p:nvSpPr>
        <p:spPr>
          <a:xfrm>
            <a:off x="71280" y="6643800"/>
            <a:ext cx="785880" cy="2142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6"/>
          <p:cNvSpPr/>
          <p:nvPr/>
        </p:nvSpPr>
        <p:spPr>
          <a:xfrm>
            <a:off x="1331640" y="6548400"/>
            <a:ext cx="7299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http://www.myhelpassignment.com/datastructuresalgorithms-assignment-help.asp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ndalus"/>
                <a:ea typeface="Andalus"/>
              </a:rPr>
              <a:t>Contacts******</a:t>
            </a:r>
            <a:endParaRPr b="0" lang="en-US" sz="28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parajita"/>
              </a:rPr>
              <a:t>Email:- </a:t>
            </a:r>
            <a:r>
              <a:rPr b="0" lang="en-US" sz="2000" spc="-1" strike="noStrike" u="sng">
                <a:solidFill>
                  <a:srgbClr val="009999"/>
                </a:solidFill>
                <a:uFillTx/>
                <a:latin typeface="Arial Narrow"/>
                <a:ea typeface="Aparajita"/>
                <a:hlinkClick r:id="rId1"/>
              </a:rPr>
              <a:t>Contact4ha@Gmail.Com</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parajita"/>
              </a:rPr>
              <a:t>Phone:- +1 (631) 973-9655</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parajita"/>
              </a:rPr>
              <a:t>Web:- Myhelpassignment.Com</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Rectangle 5"/>
          <p:cNvSpPr/>
          <p:nvPr/>
        </p:nvSpPr>
        <p:spPr>
          <a:xfrm>
            <a:off x="71280" y="6643800"/>
            <a:ext cx="785880" cy="2142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Box 6"/>
          <p:cNvSpPr/>
          <p:nvPr/>
        </p:nvSpPr>
        <p:spPr>
          <a:xfrm>
            <a:off x="1331640" y="6548400"/>
            <a:ext cx="7299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http://www.myhelpassignment.com/datastructuresalgorithms-assignment-help.asp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decent</cp:lastModifiedBy>
  <dcterms:modified xsi:type="dcterms:W3CDTF">2017-07-18T08:46:31Z</dcterms:modified>
  <cp:revision>840</cp:revision>
  <dc:subject/>
  <dc:title>Diapositiva 1</dc:title>
</cp:coreProperties>
</file>